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3F7-94F1-4ECD-B3BC-ECCD4376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A678-B1E5-4A75-994B-35A950F9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D761-1ABA-48B6-A2C9-5E18D4BF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0715-7AA1-40E1-B25F-966BDA57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2A84-B30B-44B4-AA6A-2013AB73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713E-84AD-49CF-9125-3E6FDF77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610F-8A5A-4E7A-BDB3-E89A03DC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CC5-6C7E-407D-AF0A-9C8D2568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1B3-FF31-4D33-BEC0-C2223748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B79-8C32-4901-8553-0447E52E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81A-0B1F-4606-AE85-89C36F8E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5189-CD4F-4963-A1A3-9FE0946F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DB9B-B478-42DE-86F7-F721400859D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ienciaspaseando.wikispaces.com/NUESTROS+TRABAJOS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9051840" cy="400500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1116000" y="5157720"/>
            <a:ext cx="655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“Ciencias paseando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1º ESO Instituto Artaza Romo (Bizkai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19:18:47Z</dcterms:created>
  <dc:creator>Mari</dc:creator>
  <dc:description/>
  <dc:language>en-US</dc:language>
  <cp:lastModifiedBy>Mari</cp:lastModifiedBy>
  <dcterms:modified xsi:type="dcterms:W3CDTF">2015-04-21T19:25:54Z</dcterms:modified>
  <cp:revision>1</cp:revision>
  <dc:subject/>
  <dc:title>Diapositiva 1</dc:title>
</cp:coreProperties>
</file>